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52B7-198C-4753-B8E9-3C0989BEA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03BC-29D1-4CFD-926E-9DFF34B72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1EA5-5A26-4262-935B-DD55A4F32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45E8-DF59-4EE1-8372-0B51FF32A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C0BB-10F5-4FD4-9B4D-DC36CE8CC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CFD6-7B28-46EE-A903-B4B22B681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9DCD-58B1-4674-A8AA-2964BAA05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2B6F-6ED9-48DA-84F0-CCF3C3676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AD58-13EA-438F-9F14-8D634D42C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E36A-2B26-4FFE-8DAB-4DC557F4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A73C-D3FD-49DD-B39D-62070AFF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7FD6-1DB4-4757-A165-4828F059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6E33B-B02D-4B86-8D37-90AD9AB6C2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7848720" cy="37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МОУ «Кировская СОШ»</a:t>
            </a:r>
            <a:br>
              <a:rPr sz="4400"/>
            </a:b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ВОСПИТАНИЕ ТОЛЕРАНТНОСТИ</a:t>
            </a:r>
            <a:br>
              <a:rPr sz="60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читель начальных классов Арестанова Айслу Жанзак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3класс </a:t>
            </a:r>
            <a:r>
              <a:rPr b="1" lang="ru-RU" sz="4000" spc="-1" strike="noStrike" u="sng">
                <a:solidFill>
                  <a:srgbClr val="0000ff"/>
                </a:solidFill>
                <a:uFillTx/>
                <a:latin typeface="Arial"/>
              </a:rPr>
              <a:t>Вместе лучш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91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Сентябрь -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- диагностика учащихся, классный час Культура мира. Человек среди людей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Октябрь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—знакомство с русской национальной культурой, фольклорный праздник «Русские посидел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Ноябрь—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стория национального костюма (познавательная экскурсия в краеведческий музей), осенние игры и состяз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Декабрь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—как встречают Новый год в разных странах (игра-путешествие), новогодний праздник «Свят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Январь—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лассный час «Мы-- команда одного корабл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Февраль—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раздник «Маслениц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Март—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читательская конференция по сказкам народов ми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Апрель—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лассный час «Стремись делать добр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Май—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раздник «Я, ты, он, она—вместе дружная семь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9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9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9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9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9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0"/>
                            </p:stCondLst>
                            <p:childTnLst>
                              <p:par>
                                <p:cTn id="2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9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9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7000"/>
                            </p:stCondLst>
                            <p:childTnLst>
                              <p:par>
                                <p:cTn id="2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9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8000"/>
                            </p:stCondLst>
                            <p:childTnLst>
                              <p:par>
                                <p:cTn id="2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9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4класс </a:t>
            </a:r>
            <a:r>
              <a:rPr b="1" lang="ru-RU" sz="4000" spc="-1" strike="noStrike" u="sng">
                <a:solidFill>
                  <a:srgbClr val="0000ff"/>
                </a:solidFill>
                <a:uFillTx/>
                <a:latin typeface="Arial"/>
              </a:rPr>
              <a:t>Учимся договариватьс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Сентябрь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-- диагностика учащихся. Классный час «О правах и обязанностях ребёнка». Знакомство с Конвенцией о правах ребёнка и уставом школ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Октябрь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—психологическая игра «Необитаемый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остр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Ноябрь—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сихологический тренинг «Научись управлять собо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Декабрь—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ресс-конференция (с участием родителей) « Однажды в моём класс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Январь-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- Классный час « Шесть шагов разрешения конфликт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Февраль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—встреча с инспектором отдела профилактики правонаруш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Март--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Классный час «Учимся договариватьс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Апрель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-- Классный час «Улыбка и смех приятны для все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Май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—игровая программа «Час общени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9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9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9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9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000"/>
                            </p:stCondLst>
                            <p:childTnLst>
                              <p:par>
                                <p:cTn id="2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9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0"/>
                            </p:stCondLst>
                            <p:childTnLst>
                              <p:par>
                                <p:cTn id="2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9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6000"/>
                            </p:stCondLst>
                            <p:childTnLst>
                              <p:par>
                                <p:cTn id="2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9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7000"/>
                            </p:stCondLst>
                            <p:childTnLst>
                              <p:par>
                                <p:cTn id="2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9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8000"/>
                            </p:stCondLst>
                            <p:childTnLst>
                              <p:par>
                                <p:cTn id="3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9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Давайте учиться говорить друг другу комплимент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«Я хороший, ты хороший»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Нарисуй себя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Заплети косичку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Все мы разные, но все мы вмест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Чайничек с крышечкой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крышечка с шишечкой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шишечка с дырочкой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 дырочки пар идё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ар идет с дырочки , дырочка с шишечкой, шишечка с крышечкой, крышечка с чайничком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0000"/>
                </a:solidFill>
                <a:uFillTx/>
                <a:latin typeface="Arial"/>
              </a:rPr>
              <a:t>Бу-бу-бу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с крышечкой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крышечка с шишечкой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шишечка с дырочкой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 дырочки пар идё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ар идет с дырочки , дырочка с шишечкой, шишечка с крышечкой, крышечка с </a:t>
            </a:r>
            <a:r>
              <a:rPr b="1" lang="ru-RU" sz="5400" spc="-1" strike="noStrike" u="sng">
                <a:solidFill>
                  <a:srgbClr val="ff0000"/>
                </a:solidFill>
                <a:uFillTx/>
                <a:latin typeface="Arial"/>
              </a:rPr>
              <a:t>бу-бу-б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Школа является своего рода центром сообщества. 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В школе происходит прогнозирование и планирование 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будущего, через школу сообщество формулирует 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и утверждает собственные перспектив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етти Э. Риэрд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0000"/>
                </a:solidFill>
                <a:uFillTx/>
                <a:latin typeface="Arial"/>
              </a:rPr>
              <a:t>Бу-бу-бу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с </a:t>
            </a:r>
            <a:r>
              <a:rPr b="1" lang="ru-RU" sz="5400" spc="-1" strike="noStrike" u="sng">
                <a:solidFill>
                  <a:srgbClr val="0000ff"/>
                </a:solidFill>
                <a:uFillTx/>
                <a:latin typeface="Arial"/>
              </a:rPr>
              <a:t>ля-ля-ля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ru-RU" sz="5400" spc="-1" strike="noStrike" u="sng">
                <a:solidFill>
                  <a:srgbClr val="0000ff"/>
                </a:solidFill>
                <a:uFillTx/>
                <a:latin typeface="Arial"/>
              </a:rPr>
              <a:t>ля-ля-л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 шишечкой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шишечка с дырочкой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 дырочки пар идё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ар идет с дырочки , дырочка с шишечкой, шишечка с </a:t>
            </a:r>
            <a:r>
              <a:rPr b="1" lang="ru-RU" sz="5400" spc="-1" strike="noStrike" u="sng">
                <a:solidFill>
                  <a:srgbClr val="0000ff"/>
                </a:solidFill>
                <a:uFillTx/>
                <a:latin typeface="Arial"/>
              </a:rPr>
              <a:t>ля-ля-ля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5400" spc="-1" strike="noStrike" u="sng">
                <a:solidFill>
                  <a:srgbClr val="0000ff"/>
                </a:solidFill>
                <a:uFillTx/>
                <a:latin typeface="Arial"/>
              </a:rPr>
              <a:t>ля-ля-ля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5400" spc="-1" strike="noStrike" u="sng">
                <a:solidFill>
                  <a:srgbClr val="ff0000"/>
                </a:solidFill>
                <a:uFillTx/>
                <a:latin typeface="Arial"/>
              </a:rPr>
              <a:t>бу-бу-б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0000"/>
                </a:solidFill>
                <a:uFillTx/>
                <a:latin typeface="Arial"/>
              </a:rPr>
              <a:t>Бу-бу-бу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с </a:t>
            </a:r>
            <a:r>
              <a:rPr b="1" lang="ru-RU" sz="5400" spc="-1" strike="noStrike" u="sng">
                <a:solidFill>
                  <a:srgbClr val="0000ff"/>
                </a:solidFill>
                <a:uFillTx/>
                <a:latin typeface="Arial"/>
              </a:rPr>
              <a:t>ля-ля-ля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ru-RU" sz="5400" spc="-1" strike="noStrike" u="sng">
                <a:solidFill>
                  <a:srgbClr val="0000ff"/>
                </a:solidFill>
                <a:uFillTx/>
                <a:latin typeface="Arial"/>
              </a:rPr>
              <a:t>ля-ля-л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5400" spc="-1" strike="noStrike" u="sng">
                <a:solidFill>
                  <a:srgbClr val="008000"/>
                </a:solidFill>
                <a:uFillTx/>
                <a:latin typeface="Arial"/>
              </a:rPr>
              <a:t>ши-ши-ши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8000"/>
                </a:solidFill>
                <a:uFillTx/>
                <a:latin typeface="Arial"/>
              </a:rPr>
              <a:t>ши-ши-ши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с дырочкой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 дырочки пар идё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ар идет с  дырочки , дырочка с </a:t>
            </a:r>
            <a:r>
              <a:rPr b="1" lang="ru-RU" sz="5400" spc="-1" strike="noStrike" u="sng">
                <a:solidFill>
                  <a:srgbClr val="008000"/>
                </a:solidFill>
                <a:uFillTx/>
                <a:latin typeface="Arial"/>
              </a:rPr>
              <a:t>ши-ши-ши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5400" spc="-1" strike="noStrike" u="sng">
                <a:solidFill>
                  <a:srgbClr val="008000"/>
                </a:solidFill>
                <a:uFillTx/>
                <a:latin typeface="Arial"/>
              </a:rPr>
              <a:t>ши-ши-ши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с </a:t>
            </a:r>
            <a:r>
              <a:rPr b="1" lang="ru-RU" sz="5400" spc="-1" strike="noStrike" u="sng">
                <a:solidFill>
                  <a:srgbClr val="0000ff"/>
                </a:solidFill>
                <a:uFillTx/>
                <a:latin typeface="Arial"/>
              </a:rPr>
              <a:t>ля-ля-ля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5400" spc="-1" strike="noStrike" u="sng">
                <a:solidFill>
                  <a:srgbClr val="0000ff"/>
                </a:solidFill>
                <a:uFillTx/>
                <a:latin typeface="Arial"/>
              </a:rPr>
              <a:t>ля-ля-ля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5400" spc="-1" strike="noStrike" u="sng">
                <a:solidFill>
                  <a:srgbClr val="ff0000"/>
                </a:solidFill>
                <a:uFillTx/>
                <a:latin typeface="Arial"/>
              </a:rPr>
              <a:t>бу-бу-б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0000"/>
                </a:solidFill>
                <a:uFillTx/>
                <a:latin typeface="Arial"/>
              </a:rPr>
              <a:t>Бу-бу-бу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с </a:t>
            </a:r>
            <a:r>
              <a:rPr b="1" lang="ru-RU" sz="5400" spc="-1" strike="noStrike" u="sng">
                <a:solidFill>
                  <a:srgbClr val="0000ff"/>
                </a:solidFill>
                <a:uFillTx/>
                <a:latin typeface="Arial"/>
              </a:rPr>
              <a:t>ля-ля-ля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ru-RU" sz="5400" spc="-1" strike="noStrike" u="sng">
                <a:solidFill>
                  <a:srgbClr val="0000ff"/>
                </a:solidFill>
                <a:uFillTx/>
                <a:latin typeface="Arial"/>
              </a:rPr>
              <a:t>ля-ля-л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5400" spc="-1" strike="noStrike" u="sng">
                <a:solidFill>
                  <a:srgbClr val="008000"/>
                </a:solidFill>
                <a:uFillTx/>
                <a:latin typeface="Arial"/>
              </a:rPr>
              <a:t>ши-ши-ши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8000"/>
                </a:solidFill>
                <a:uFillTx/>
                <a:latin typeface="Arial"/>
              </a:rPr>
              <a:t>ши-ши-ши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с </a:t>
            </a:r>
            <a:r>
              <a:rPr b="1" lang="ru-RU" sz="5400" spc="-1" strike="noStrike" u="sng">
                <a:solidFill>
                  <a:srgbClr val="ff0066"/>
                </a:solidFill>
                <a:uFillTx/>
                <a:latin typeface="Arial"/>
              </a:rPr>
              <a:t>дыр-дыр-дыр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5400" spc="-1" strike="noStrike" u="sng">
                <a:solidFill>
                  <a:srgbClr val="ff0066"/>
                </a:solidFill>
                <a:uFillTx/>
                <a:latin typeface="Arial"/>
              </a:rPr>
              <a:t>дыр-дыр-дыр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пар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идё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ар идет с  </a:t>
            </a:r>
            <a:r>
              <a:rPr b="1" lang="ru-RU" sz="5400" spc="-1" strike="noStrike" u="sng">
                <a:solidFill>
                  <a:srgbClr val="ff0066"/>
                </a:solidFill>
                <a:uFillTx/>
                <a:latin typeface="Arial"/>
              </a:rPr>
              <a:t>дыр-дыр-дыр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lang="ru-RU" sz="5400" spc="-1" strike="noStrike" u="sng">
                <a:solidFill>
                  <a:srgbClr val="ff0066"/>
                </a:solidFill>
                <a:uFillTx/>
                <a:latin typeface="Arial"/>
              </a:rPr>
              <a:t>дыр-дыр-дыр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с </a:t>
            </a:r>
            <a:r>
              <a:rPr b="1" lang="ru-RU" sz="5400" spc="-1" strike="noStrike" u="sng">
                <a:solidFill>
                  <a:srgbClr val="008000"/>
                </a:solidFill>
                <a:uFillTx/>
                <a:latin typeface="Arial"/>
              </a:rPr>
              <a:t>ши-ши-ши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5400" spc="-1" strike="noStrike" u="sng">
                <a:solidFill>
                  <a:srgbClr val="008000"/>
                </a:solidFill>
                <a:uFillTx/>
                <a:latin typeface="Arial"/>
              </a:rPr>
              <a:t>ши-ши-ши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с </a:t>
            </a:r>
            <a:r>
              <a:rPr b="1" lang="ru-RU" sz="5400" spc="-1" strike="noStrike" u="sng">
                <a:solidFill>
                  <a:srgbClr val="0000ff"/>
                </a:solidFill>
                <a:uFillTx/>
                <a:latin typeface="Arial"/>
              </a:rPr>
              <a:t>ля-ля-ля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5400" spc="-1" strike="noStrike" u="sng">
                <a:solidFill>
                  <a:srgbClr val="0000ff"/>
                </a:solidFill>
                <a:uFillTx/>
                <a:latin typeface="Arial"/>
              </a:rPr>
              <a:t>ля-ля-ля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5400" spc="-1" strike="noStrike" u="sng">
                <a:solidFill>
                  <a:srgbClr val="ff0000"/>
                </a:solidFill>
                <a:uFillTx/>
                <a:latin typeface="Arial"/>
              </a:rPr>
              <a:t>бу-бу-б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1.  XVIII-XIX в. Франция - Талейран Перигор, князь Беневентск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2. “tolerantia” (лат.) – терпение – терпимость к иного рода взглядам, нравам, привычк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3628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а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«Воспитание культуры толерантности у детей младшего возраста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едусматривает следующие направления обучения толерант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комство детей с принципом уважения человеческого достоинства всех без исключения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Понимание того, что требуется уважать различия между людь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имание принципа взаимодополняемости как основной черты различий. Ученики должны понять, что различия выступают как дополняющие друг друга элемен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имание принципа взаимозависимости как основы совместных действий. Учащихся следует приучать к совместному решению проблем и разделению труда при выполнении заданий—это наглядно показывает, как выигрывает каждый при решении проблем через сотрудничеств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И как результат—приобщение к культуре ми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1класс  </a:t>
            </a:r>
            <a:r>
              <a:rPr b="1" lang="ru-RU" sz="4400" spc="-1" strike="noStrike" u="sng">
                <a:solidFill>
                  <a:srgbClr val="0000ff"/>
                </a:solidFill>
                <a:uFillTx/>
                <a:latin typeface="Arial"/>
              </a:rPr>
              <a:t>Я и моя сем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9280" y="1052640"/>
            <a:ext cx="8209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Сентябрь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–диагностика учащихся( опросник для индивидуального знакомства с воспитаннико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Октябрь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—день бабушек( в рамках декады пожилых люде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Ноябрь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---классный час «Моя семь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Декабрь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---Праздничный концерт «Новогодняя карусель», конкурс на лучшую игрушку Мастерская Деда Мороз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Январь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—классный час «На кого я хочу быть похожим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Февраль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—конкурс «Сильные, смелые, ловкие, умелые.»(папы и мальчик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Март---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раздник для мам и девочек «Дорогие и любимы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Апрель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— родительское собрание совместно с учащимися, рассказ о профессиях род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Май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—игра-марафон «Весёлый поезд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9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9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9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9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0"/>
                            </p:stCondLst>
                            <p:childTnLst>
                              <p:par>
                                <p:cTn id="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9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000"/>
                            </p:stCondLst>
                            <p:childTnLst>
                              <p:par>
                                <p:cTn id="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9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7000"/>
                            </p:stCondLst>
                            <p:childTnLst>
                              <p:par>
                                <p:cTn id="1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9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8000"/>
                            </p:stCondLst>
                            <p:childTnLst>
                              <p:par>
                                <p:cTn id="1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9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2класс </a:t>
            </a:r>
            <a:r>
              <a:rPr b="1" lang="ru-RU" sz="3600" spc="-1" strike="noStrike" u="sng">
                <a:solidFill>
                  <a:srgbClr val="0000ff"/>
                </a:solidFill>
                <a:uFillTx/>
                <a:latin typeface="Arial"/>
              </a:rPr>
              <a:t>Ты да я , да мы с тобой.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Сентябрь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–диагностика учащихся Классный час «Ты да я , да мы с тобой», составление декларации прав и обязанностей учеников 2 кла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Октябрь –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укцион «Книга рекордов нашего класс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Ноябрь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—диспут «Легко ли быть настоящим другом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Декабрь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—читательская конференция по сказкам Х.К. Андерсена, новогодний бал-маскарад «Новогодний коктейл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Январь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—классный час «Я и моё им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Февраль-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-- праздник «Мама, папа, я—спортивная семь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Март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—конкурс «Мисс и мистер класс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Апрель—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лассный час «О дружб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Май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—КВН «Наш класс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9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9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9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9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9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0"/>
                            </p:stCondLst>
                            <p:childTnLst>
                              <p:par>
                                <p:cTn id="1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9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6000"/>
                            </p:stCondLst>
                            <p:childTnLst>
                              <p:par>
                                <p:cTn id="1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9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7000"/>
                            </p:stCondLst>
                            <p:childTnLst>
                              <p:par>
                                <p:cTn id="1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9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8000"/>
                            </p:stCondLst>
                            <p:childTnLst>
                              <p:par>
                                <p:cTn id="1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9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15:46:09Z</dcterms:created>
  <dc:creator>User</dc:creator>
  <dc:description/>
  <dc:language>en-US</dc:language>
  <cp:lastModifiedBy>User</cp:lastModifiedBy>
  <dcterms:modified xsi:type="dcterms:W3CDTF">2010-11-02T08:35:28Z</dcterms:modified>
  <cp:revision>8</cp:revision>
  <dc:subject/>
  <dc:title>Слайд 1</dc:title>
</cp:coreProperties>
</file>